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63C-9AD0-4927-815A-9A763283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3535-6D8E-43CD-A9D0-DA5167FD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194C-904F-496E-82F6-77668E92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7F90-36CB-4832-BF30-4B23B61D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9E3D-2390-444F-B116-AB9FA53C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2980-E73D-4059-8F1E-7D162AB5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F164-E4BF-47A1-AA5E-611C0CAA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23F4-155D-4914-9FAE-A12657C2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51F3-AA46-4627-AFDE-ACD82435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0141-A1D9-4A2D-9924-F155937F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E7B5-8783-494A-96D4-CE163F86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47B-9F27-4EB0-9D49-AAEF0A7D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9341-27C7-483F-86D7-451F15D9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7B95-0E41-4A8A-A055-6B623070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65EE-6726-4561-846E-04C8AFBF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2BD0-5DBA-40D3-BED4-43AD58BE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4A38-C8B3-405A-88FA-7865E927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1603D-38E6-418F-B0F0-9A62008B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C05C2-776D-434B-BD35-812D1DCD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EAB08-E4A8-4C2A-872F-0407CD1F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66167-26B2-4DCC-A560-B2628E7F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04027-5493-415E-AD99-9EE48A4C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C44-C274-4C35-8ADF-6E668E4D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CD6B2-EB26-4F42-B8EB-C9177022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524F0-6784-4940-BA30-9CCA4D05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B0E36-4300-4A79-B0A7-20CCABCF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9A7CE-C298-43EF-BB84-EFA2935D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44FAD-9EF6-4C8A-88D9-4267C817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05D97-88FF-4B42-AE18-0770E91D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D04F9-7809-4DE7-A97D-B3AF45E5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121CC-BED0-4290-8F5F-B37A9403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3C05E-504A-40DC-AE2A-4F2D2BE8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44082-FC66-455C-877B-45AB7F3E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F27-269E-435A-B6FF-145EBC45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78401-0B6D-4F70-B7EA-45E2973B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84FF2-D995-4F63-982A-3DE9CA5C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5FC2F-F5BA-4DA1-9B13-8239BDB4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9DFF0-6C97-42D4-A333-B1110DB1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781B4-DF08-4CF4-B151-DE7D6576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A1AF0-54D9-4CC7-96FD-DC2C1AAE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BC8B8-2112-4EBC-89A2-40D42EDC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7251B-7E5F-4074-AC71-CDA526C0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C4C0C-265A-4D49-AAF5-9077C1C6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80A-8FE5-4FD2-A44D-333C6024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CC2-EC76-4813-9400-71B012B4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AD1-2446-471B-9BA4-DAAD4546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EFF-2C37-4263-A448-386356F5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108-3413-4701-A266-0B19FB78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0495-5142-44A2-A1CE-53BFAE4565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B313-B6A3-4D20-98DF-FFBF6097E67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5D99-97ED-437C-9350-59A582E8C51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AFAA-DA2A-4324-8EFC-9822E7F64EE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Ch. 54 Warm-Up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51920" y="1294920"/>
            <a:ext cx="5257800" cy="52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population has a birth rate of 0.07 and a death rate of 0.01, calculate the number of individuals added/subtracted from a population of 1,000 individuals in one yea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+/-/0, indicate the relationships i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81160" indent="-5144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Arial"/>
                <a:ea typeface="ＭＳ Ｐゴシック"/>
              </a:rPr>
              <a:t>Predat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Arial"/>
                <a:ea typeface="ＭＳ Ｐゴシック"/>
              </a:rPr>
              <a:t>Parasitism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Arial"/>
                <a:ea typeface="ＭＳ Ｐゴシック"/>
              </a:rPr>
              <a:t>Mutualism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Arial"/>
                <a:ea typeface="ＭＳ Ｐゴシック"/>
              </a:rPr>
              <a:t>Commensalism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an invasive specie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5334120" y="1495440"/>
            <a:ext cx="3733560" cy="448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23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Define Ch. 54 Terms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Fundamental n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Realized n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Symbi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Paras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Mut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Commens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Keystone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Invasive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Ecological suc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Primary suc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Secondary suc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53_05CrypticColoration_UP"/>
          <p:cNvPicPr/>
          <p:nvPr/>
        </p:nvPicPr>
        <p:blipFill>
          <a:blip r:embed="rId1"/>
          <a:stretch/>
        </p:blipFill>
        <p:spPr>
          <a:xfrm>
            <a:off x="152280" y="685800"/>
            <a:ext cx="3395880" cy="2514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53_06AposematicColor_UP"/>
          <p:cNvPicPr/>
          <p:nvPr/>
        </p:nvPicPr>
        <p:blipFill>
          <a:blip r:embed="rId2"/>
          <a:stretch/>
        </p:blipFill>
        <p:spPr>
          <a:xfrm>
            <a:off x="5791320" y="3657600"/>
            <a:ext cx="3047760" cy="293040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6"/>
          <p:cNvGrpSpPr/>
          <p:nvPr/>
        </p:nvGrpSpPr>
        <p:grpSpPr>
          <a:xfrm>
            <a:off x="3581280" y="838080"/>
            <a:ext cx="5410440" cy="2743200"/>
            <a:chOff x="3581280" y="838080"/>
            <a:chExt cx="5410440" cy="2743200"/>
          </a:xfrm>
        </p:grpSpPr>
        <p:pic>
          <p:nvPicPr>
            <p:cNvPr id="247" name="Picture 5" descr=""/>
            <p:cNvPicPr/>
            <p:nvPr/>
          </p:nvPicPr>
          <p:blipFill>
            <a:blip r:embed="rId3"/>
            <a:stretch/>
          </p:blipFill>
          <p:spPr>
            <a:xfrm>
              <a:off x="3581280" y="838080"/>
              <a:ext cx="54104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3"/>
            <p:cNvSpPr/>
            <p:nvPr/>
          </p:nvSpPr>
          <p:spPr>
            <a:xfrm>
              <a:off x="3948480" y="2706120"/>
              <a:ext cx="14990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ckoo b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4"/>
            <p:cNvSpPr/>
            <p:nvPr/>
          </p:nvSpPr>
          <p:spPr>
            <a:xfrm>
              <a:off x="6364440" y="3335040"/>
              <a:ext cx="14990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ellow ja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0"/>
          <p:cNvGrpSpPr/>
          <p:nvPr/>
        </p:nvGrpSpPr>
        <p:grpSpPr>
          <a:xfrm>
            <a:off x="152280" y="3429000"/>
            <a:ext cx="5411880" cy="3160800"/>
            <a:chOff x="152280" y="3429000"/>
            <a:chExt cx="5411880" cy="3160800"/>
          </a:xfrm>
        </p:grpSpPr>
        <p:pic>
          <p:nvPicPr>
            <p:cNvPr id="251" name="Picture 29" descr=""/>
            <p:cNvPicPr/>
            <p:nvPr/>
          </p:nvPicPr>
          <p:blipFill>
            <a:blip r:embed="rId4"/>
            <a:stretch/>
          </p:blipFill>
          <p:spPr>
            <a:xfrm>
              <a:off x="152280" y="3429000"/>
              <a:ext cx="5411880" cy="31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21"/>
            <p:cNvSpPr/>
            <p:nvPr/>
          </p:nvSpPr>
          <p:spPr>
            <a:xfrm>
              <a:off x="509400" y="6328080"/>
              <a:ext cx="14997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wkmoth lar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28"/>
            <p:cNvSpPr/>
            <p:nvPr/>
          </p:nvSpPr>
          <p:spPr>
            <a:xfrm>
              <a:off x="2760120" y="5769720"/>
              <a:ext cx="14997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een parrot sn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7621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ymbi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2+ species live in direct contact with one anot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Parasitism (+/-), mutualism (+/+), commensalism (+/0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5" name="Picture 2" descr="53_09Mutualism_UP"/>
          <p:cNvPicPr/>
          <p:nvPr/>
        </p:nvPicPr>
        <p:blipFill>
          <a:blip r:embed="rId1"/>
          <a:stretch/>
        </p:blipFill>
        <p:spPr>
          <a:xfrm>
            <a:off x="228600" y="2362320"/>
            <a:ext cx="4495680" cy="2797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53_10Commensalism_UP"/>
          <p:cNvPicPr/>
          <p:nvPr/>
        </p:nvPicPr>
        <p:blipFill>
          <a:blip r:embed="rId2"/>
          <a:stretch/>
        </p:blipFill>
        <p:spPr>
          <a:xfrm>
            <a:off x="4876920" y="3581280"/>
            <a:ext cx="4084560" cy="308448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99072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t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5486400" y="3048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ens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Community Struc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Species diversity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n-US" sz="28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species rich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# of different species) + </a:t>
            </a:r>
            <a:r>
              <a:rPr b="1" lang="en-US" sz="28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relative abundance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each speci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ich is most divers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Community 1: 90A, 10B, 0C, 0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Community 2: 25A, 25B, 25C, 25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Community 3: 80A, 5B, 5C, 10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  <a:ea typeface="Arial"/>
              </a:rPr>
              <a:t>Shannon Diversity Ind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calculate diversity based on species richness &amp; relative abunda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ly diverse communities more resistant t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vasive spec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Invasive Spec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become established outside native ra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Kudz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– vine plant from Japan, noxious weed that kills trees &amp; shrub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3" name="Picture 2" descr="http://1.bp.blogspot.com/_ALN7_3uQFD8/TG14rOS5HjI/AAAAAAAAEv0/iRrd8Clwkvk/s1600/kudzugoatseatingit.jpg"/>
          <p:cNvPicPr/>
          <p:nvPr/>
        </p:nvPicPr>
        <p:blipFill>
          <a:blip r:embed="rId1"/>
          <a:stretch/>
        </p:blipFill>
        <p:spPr>
          <a:xfrm>
            <a:off x="4952880" y="3962520"/>
            <a:ext cx="3302280" cy="2476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264" name="Picture 6" descr="http://www.dcnr.state.pa.us/forestry/invasivetutorial/images/kudzu4.jpg"/>
          <p:cNvPicPr/>
          <p:nvPr/>
        </p:nvPicPr>
        <p:blipFill>
          <a:blip r:embed="rId2"/>
          <a:stretch/>
        </p:blipFill>
        <p:spPr>
          <a:xfrm>
            <a:off x="495360" y="3962520"/>
            <a:ext cx="3657600" cy="243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Invasive Spec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28600" y="1447920"/>
            <a:ext cx="5562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utch elm disease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 fungus carried by beetl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ived in U.S. on logs imported from Netherlands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ath of many elm trees across U.S., Europe, Canada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y to cultivate resistant strains of elm tre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4" descr="http://media-3.web.britannica.com/eb-media/70/12170-004-FBE79ED3.jpg"/>
          <p:cNvPicPr/>
          <p:nvPr/>
        </p:nvPicPr>
        <p:blipFill>
          <a:blip r:embed="rId1"/>
          <a:stretch/>
        </p:blipFill>
        <p:spPr>
          <a:xfrm>
            <a:off x="5943600" y="1523880"/>
            <a:ext cx="2895480" cy="376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Invasive Spec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600" y="1447920"/>
            <a:ext cx="5867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otato Blight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 fungus-like disease caused Irish Potato Famine in 184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rrived in Ireland from ships coming from U.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nly 1 species of potato planted in Irelan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all susceptible to disea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million people di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blem with </a:t>
            </a:r>
            <a:r>
              <a:rPr b="1" lang="en-US" sz="2600" spc="-1" strike="noStrike">
                <a:solidFill>
                  <a:srgbClr val="008080"/>
                </a:solidFill>
                <a:latin typeface="Arial"/>
                <a:ea typeface="Arial"/>
              </a:rPr>
              <a:t>monocultu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&amp; lack of genetic diversity of crop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0" name="Picture 2" descr="http://upload.wikimedia.org/wikipedia/commons/thumb/a/a6/Symptom_potato_late_blight.jpg/220px-Symptom_potato_late_blight.jpg"/>
          <p:cNvPicPr/>
          <p:nvPr/>
        </p:nvPicPr>
        <p:blipFill>
          <a:blip r:embed="rId1"/>
          <a:stretch/>
        </p:blipFill>
        <p:spPr>
          <a:xfrm>
            <a:off x="6172200" y="4724280"/>
            <a:ext cx="2530440" cy="17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271" name="Picture 4" descr="http://www.bbc.co.uk/herefordandworcester/content/images/2005/07/11/potato_blight_203_203x152.jpg"/>
          <p:cNvPicPr/>
          <p:nvPr/>
        </p:nvPicPr>
        <p:blipFill>
          <a:blip r:embed="rId2"/>
          <a:stretch/>
        </p:blipFill>
        <p:spPr>
          <a:xfrm>
            <a:off x="6172200" y="2556000"/>
            <a:ext cx="2590920" cy="1939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272" name="Picture 6" descr="http://t0.gstatic.com/images?q=tbn:ANd9GcS5AtsuZfhdu4La076MgpwyUyIXKX3SbZUF51J45OyakVFcVdCi&amp;t=1"/>
          <p:cNvPicPr/>
          <p:nvPr/>
        </p:nvPicPr>
        <p:blipFill>
          <a:blip r:embed="rId3"/>
          <a:stretch/>
        </p:blipFill>
        <p:spPr>
          <a:xfrm>
            <a:off x="6143760" y="542880"/>
            <a:ext cx="261936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Arial"/>
                <a:ea typeface="Arial"/>
              </a:rPr>
              <a:t>Trophic Structu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" y="1599840"/>
            <a:ext cx="868680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ophic 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a community is determined by th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feeding relationship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ween organism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Trophic leve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links in the trophic struc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ransfer of food energy from pla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erbivor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rnivor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composers is called th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food ch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4572000" y="304920"/>
            <a:ext cx="4357800" cy="6095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3431880" y="608004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3.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2280" y="1447560"/>
            <a:ext cx="4724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What limits the length of a food chain?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527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efficiency of energy transfer along ch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27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 food chains less stable than short chai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"/>
          <p:cNvPicPr/>
          <p:nvPr/>
        </p:nvPicPr>
        <p:blipFill>
          <a:blip r:embed="rId1"/>
          <a:srcRect l="0" t="0" r="0" b="2998"/>
          <a:stretch/>
        </p:blipFill>
        <p:spPr>
          <a:xfrm>
            <a:off x="4343400" y="762120"/>
            <a:ext cx="4624560" cy="556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151920" y="1828800"/>
            <a:ext cx="48006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 or more food chains linked together are called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food we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given species may weave into the web 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re than 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rophic leve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75960" y="685440"/>
            <a:ext cx="64767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ominant 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has the highest biomass or is the most abundant in the commun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Keystone 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exert control on community structure by their important ecological nich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Loss of </a:t>
            </a:r>
            <a:r>
              <a:rPr b="0" lang="en-US" sz="2600" spc="-1" strike="noStrike">
                <a:solidFill>
                  <a:srgbClr val="f63f1b"/>
                </a:solidFill>
                <a:latin typeface="Arial"/>
                <a:ea typeface="Arial"/>
              </a:rPr>
              <a:t>sea otter </a:t>
            </a: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 increase sea urchins, destruction of kelp fores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3f1b"/>
                </a:solidFill>
                <a:latin typeface="Arial"/>
                <a:ea typeface="Arial"/>
              </a:rPr>
              <a:t>Grizzly bear </a:t>
            </a: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(transfer nutrients from sea </a:t>
            </a: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 land by salmon diet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3f1b"/>
                </a:solidFill>
                <a:latin typeface="Arial"/>
                <a:ea typeface="Arial"/>
              </a:rPr>
              <a:t>Prairie dogs </a:t>
            </a: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(burrows, soil aeration, trim vegetation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7086600" y="4495680"/>
            <a:ext cx="1447920" cy="2176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283" name="Picture 4" descr="http://www.concierge.com/images/destinations/destinationguide/usa%2Bcanada/usa/alaska/seeanddo/bearwatching/grizzlybearsalmon_001p.jpg"/>
          <p:cNvPicPr/>
          <p:nvPr/>
        </p:nvPicPr>
        <p:blipFill>
          <a:blip r:embed="rId2"/>
          <a:stretch/>
        </p:blipFill>
        <p:spPr>
          <a:xfrm>
            <a:off x="6705720" y="2506680"/>
            <a:ext cx="2133360" cy="1684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284" name="Picture 6" descr="http://lair2000.net/Mermaid_Lyrics6/lyrics/otter.jpg"/>
          <p:cNvPicPr/>
          <p:nvPr/>
        </p:nvPicPr>
        <p:blipFill>
          <a:blip r:embed="rId3"/>
          <a:stretch/>
        </p:blipFill>
        <p:spPr>
          <a:xfrm>
            <a:off x="6629400" y="609480"/>
            <a:ext cx="2209680" cy="1606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hapter 54: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ommunity Ecolog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8" name="Picture 2" descr="54_01CrabSeaUrchin-L.jpg"/>
          <p:cNvPicPr/>
          <p:nvPr/>
        </p:nvPicPr>
        <p:blipFill>
          <a:blip r:embed="rId1"/>
          <a:stretch/>
        </p:blipFill>
        <p:spPr>
          <a:xfrm>
            <a:off x="1676520" y="2438280"/>
            <a:ext cx="568944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Arial"/>
                <a:ea typeface="Arial"/>
              </a:rPr>
              <a:t>Disturbances influences species diversity and composition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0476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disturb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hanges a community by removing organisms or changing resource availability (fire, drought, flood, storm, human activit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cological succ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transitions in species composition in a certain area over ecological ti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1" descr=""/>
          <p:cNvPicPr/>
          <p:nvPr/>
        </p:nvPicPr>
        <p:blipFill>
          <a:blip r:embed="rId1"/>
          <a:stretch/>
        </p:blipFill>
        <p:spPr>
          <a:xfrm>
            <a:off x="25560" y="2230560"/>
            <a:ext cx="5689440" cy="46274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Primary Success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286000" y="1447560"/>
            <a:ext cx="6858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nts &amp; animals invade where soil has not yet form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Ex. colonization of volcanic island or glaci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Secondary Success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44756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ccurs when existing community is cleared by a disturbance that leaves soil inta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Ex. abandoned farm, forest fir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264960" y="3019320"/>
            <a:ext cx="8650440" cy="3762360"/>
            <a:chOff x="264960" y="3019320"/>
            <a:chExt cx="8650440" cy="3762360"/>
          </a:xfrm>
        </p:grpSpPr>
        <p:pic>
          <p:nvPicPr>
            <p:cNvPr id="293" name="Picture 17" descr=""/>
            <p:cNvPicPr/>
            <p:nvPr/>
          </p:nvPicPr>
          <p:blipFill>
            <a:blip r:embed="rId1"/>
            <a:stretch/>
          </p:blipFill>
          <p:spPr>
            <a:xfrm>
              <a:off x="264960" y="3019320"/>
              <a:ext cx="8536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15"/>
            <p:cNvSpPr/>
            <p:nvPr/>
          </p:nvSpPr>
          <p:spPr>
            <a:xfrm>
              <a:off x="631440" y="6010200"/>
              <a:ext cx="37911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oon after fire. As this photo taken soon after the fire shows, the burn left a patchy landscape. Note the unburned trees in the distance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4870440" y="6019920"/>
              <a:ext cx="404496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ne year after fire. This photo of the same general area taken the following year indicates how rapidly the com-munity began to recover. A variety of herbaceous plants, different from those in the former forest, cover the groun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Biogeographic Facto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3160" y="1447560"/>
            <a:ext cx="8381880" cy="49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47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ortant factor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96040" indent="-498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atitude</a:t>
            </a: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: species more diverse in tropics than pol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96040" indent="-498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rea</a:t>
            </a: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: larger areas more diver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1047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47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Biogeographic islan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natural labs for studying species divers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96040" indent="-498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Influenced by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</a:rPr>
              <a:t>size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and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</a:rPr>
              <a:t>distanc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099440" indent="-44316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Arial"/>
                <a:ea typeface="ＭＳ Ｐゴシック"/>
              </a:rPr>
              <a:t>Larger islands </a:t>
            </a:r>
            <a:r>
              <a:rPr b="0" lang="en-US" sz="24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3548a"/>
                </a:solidFill>
                <a:latin typeface="Arial"/>
                <a:ea typeface="ＭＳ Ｐゴシック"/>
              </a:rPr>
              <a:t> greater immigration, lower extinct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99440" indent="-44316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Arial"/>
                <a:ea typeface="ＭＳ Ｐゴシック"/>
              </a:rPr>
              <a:t>Far from mainland </a:t>
            </a:r>
            <a:r>
              <a:rPr b="0" lang="en-US" sz="24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3548a"/>
                </a:solidFill>
                <a:latin typeface="Arial"/>
                <a:ea typeface="ＭＳ Ｐゴシック"/>
              </a:rPr>
              <a:t> immigration falls, extinction rates increase 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You Must Know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ifference between a fundamental niche and a realized nich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ole of competitive exclusion in interspecific competi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ymbiotic relationships of parasitism, mutualism, and commensalis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mpact of keystone species on community structur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ifference between primary and secondary success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33520" y="9144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Commun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group of populations of different species living close enough to intera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17" descr=""/>
          <p:cNvPicPr/>
          <p:nvPr/>
        </p:nvPicPr>
        <p:blipFill>
          <a:blip r:embed="rId1"/>
          <a:srcRect l="9524" t="0" r="4762" b="23447"/>
          <a:stretch/>
        </p:blipFill>
        <p:spPr>
          <a:xfrm>
            <a:off x="762120" y="1981080"/>
            <a:ext cx="773748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Interspecific interac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560" y="1447560"/>
            <a:ext cx="88390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positive (+), negative (-) or neutral (0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Competition (-/-)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Predation (+/-)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Herbivory (+/-)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Symbiosis – parasitism, mutualism, commensalism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Facilitation (+/+ or 0/+)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54_UN03Summary_C1-L.jpg"/>
          <p:cNvPicPr/>
          <p:nvPr/>
        </p:nvPicPr>
        <p:blipFill>
          <a:blip r:embed="rId1"/>
          <a:stretch/>
        </p:blipFill>
        <p:spPr>
          <a:xfrm>
            <a:off x="977760" y="274680"/>
            <a:ext cx="71694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160" y="1295280"/>
            <a:ext cx="8381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terspecific competitio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urces are in short supp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Species interaction is -/-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mpetitive exclusion princ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Two species cannot coexist in a community if their niches are identica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The one with the slight reproductive advantage will eliminate the other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Resource partiti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differences in niches that enable similar species to coexi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  <a:ea typeface="Arial"/>
              </a:rPr>
              <a:t>Ecological nich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: the sum total of an organism’s use of abiotic/biotic resources in the environment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0520" y="1905120"/>
            <a:ext cx="853452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ndamental ni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niche potentially occupied by the spec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alized ni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ortion of fundamental niche the speci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ccup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303120" y="4257720"/>
            <a:ext cx="8535960" cy="2371680"/>
            <a:chOff x="303120" y="4257720"/>
            <a:chExt cx="8535960" cy="2371680"/>
          </a:xfrm>
        </p:grpSpPr>
        <p:pic>
          <p:nvPicPr>
            <p:cNvPr id="230" name="Picture 28" descr=""/>
            <p:cNvPicPr/>
            <p:nvPr/>
          </p:nvPicPr>
          <p:blipFill>
            <a:blip r:embed="rId1"/>
            <a:stretch/>
          </p:blipFill>
          <p:spPr>
            <a:xfrm>
              <a:off x="303120" y="4257720"/>
              <a:ext cx="853596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12"/>
            <p:cNvSpPr/>
            <p:nvPr/>
          </p:nvSpPr>
          <p:spPr>
            <a:xfrm>
              <a:off x="7169040" y="5040360"/>
              <a:ext cx="161280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hthamal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ndamental ni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14"/>
            <p:cNvSpPr/>
            <p:nvPr/>
          </p:nvSpPr>
          <p:spPr>
            <a:xfrm>
              <a:off x="7991640" y="4338360"/>
              <a:ext cx="768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 t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5"/>
            <p:cNvSpPr/>
            <p:nvPr/>
          </p:nvSpPr>
          <p:spPr>
            <a:xfrm>
              <a:off x="8032680" y="5837400"/>
              <a:ext cx="768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w t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16"/>
            <p:cNvSpPr/>
            <p:nvPr/>
          </p:nvSpPr>
          <p:spPr>
            <a:xfrm>
              <a:off x="4883040" y="5776920"/>
              <a:ext cx="768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7"/>
            <p:cNvSpPr/>
            <p:nvPr/>
          </p:nvSpPr>
          <p:spPr>
            <a:xfrm>
              <a:off x="3359160" y="4567320"/>
              <a:ext cx="12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hthamal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lized ni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18"/>
            <p:cNvSpPr/>
            <p:nvPr/>
          </p:nvSpPr>
          <p:spPr>
            <a:xfrm>
              <a:off x="3779640" y="4344840"/>
              <a:ext cx="768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 t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19"/>
            <p:cNvSpPr/>
            <p:nvPr/>
          </p:nvSpPr>
          <p:spPr>
            <a:xfrm>
              <a:off x="3797280" y="5843520"/>
              <a:ext cx="768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w t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0"/>
            <p:cNvSpPr/>
            <p:nvPr/>
          </p:nvSpPr>
          <p:spPr>
            <a:xfrm>
              <a:off x="647280" y="5783400"/>
              <a:ext cx="768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25"/>
            <p:cNvSpPr/>
            <p:nvPr/>
          </p:nvSpPr>
          <p:spPr>
            <a:xfrm>
              <a:off x="2930400" y="5297400"/>
              <a:ext cx="12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alan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lized ni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26"/>
            <p:cNvSpPr/>
            <p:nvPr/>
          </p:nvSpPr>
          <p:spPr>
            <a:xfrm>
              <a:off x="1301400" y="4459320"/>
              <a:ext cx="10476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hthamal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1304640" y="4726080"/>
              <a:ext cx="7365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alan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Predation (+/-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0880" y="1371240"/>
            <a:ext cx="8305920" cy="52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ensive adaptations inclu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ＭＳ Ｐゴシック"/>
              </a:rPr>
              <a:t>Cryptic coloration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 camouflaged by coloring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ＭＳ Ｐゴシック"/>
              </a:rPr>
              <a:t>Aposematic or warning coloration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 bright color of poisonous animals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ＭＳ Ｐゴシック"/>
              </a:rPr>
              <a:t>Batesian mimicry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 harmless species mimic color of harmful species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ＭＳ Ｐゴシック"/>
              </a:rPr>
              <a:t>Mullerian mimicry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 2 bad-tasting species resemble each other; both to be avoided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ＭＳ Ｐゴシック"/>
              </a:rPr>
              <a:t>Herbiv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plants avoid this by chemical toxins, spines, &amp; thorns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local</cp:lastModifiedBy>
  <cp:lastPrinted>2001-01-06T03:20:03Z</cp:lastPrinted>
  <dcterms:modified xsi:type="dcterms:W3CDTF">2013-08-28T15:05:28Z</dcterms:modified>
  <cp:revision>320</cp:revision>
  <dc:subject/>
  <dc:title>Nerve activates contraction</dc:title>
</cp:coreProperties>
</file>